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5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68A-C01B-4A96-B61A-363B2538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869-CC00-442B-A659-0A35B55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81F-99FC-474C-82C1-CDACA46C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1C9-E4E0-41E8-B4CF-8FC95E40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FE3-AE35-413C-8AE8-A205189E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A15-4A7B-40DB-BCDF-3D132F6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0F5-31F4-44EF-96C2-51B1099C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9444-7361-4355-AED7-E91CC3B8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BF5-87EF-4415-B9AD-F9CCB67B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D2FB-5F54-43B1-861A-F37483B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03F2-A197-40AA-9AA3-30731CC7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395-E722-462F-960D-25BC869E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F6C-8DCF-4247-B81A-C54C0AF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D217-C243-473A-990E-55D77034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B38F-06F1-403D-995F-B1DE4AE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0F25-5635-4854-B8AB-BF758A4C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C642-1AA4-4621-9FF1-1460B02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868-A0D5-4EE7-8FD3-3275495A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890-241E-4263-AAC9-D3AFE8A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078-C4CB-4837-A87B-77CBD22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238-5E2B-4462-A731-EA016CD5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BA6-24A2-4422-8514-592C690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25A-0E5C-44D4-9351-3D25458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EAC-AFAA-43C5-9400-4C330F6C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D70-9422-4E62-8AFB-3420953311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5245-99D5-4184-A730-517E965823B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8" descr="сканирование0001"/>
          <p:cNvPicPr/>
          <p:nvPr/>
        </p:nvPicPr>
        <p:blipFill>
          <a:blip r:embed="rId1"/>
          <a:stretch/>
        </p:blipFill>
        <p:spPr>
          <a:xfrm>
            <a:off x="5580000" y="18900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сканирование0004"/>
          <p:cNvPicPr/>
          <p:nvPr/>
        </p:nvPicPr>
        <p:blipFill>
          <a:blip r:embed="rId2"/>
          <a:stretch/>
        </p:blipFill>
        <p:spPr>
          <a:xfrm>
            <a:off x="3643200" y="2928960"/>
            <a:ext cx="196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сканирование0011"/>
          <p:cNvPicPr/>
          <p:nvPr/>
        </p:nvPicPr>
        <p:blipFill>
          <a:blip r:embed="rId3"/>
          <a:stretch/>
        </p:blipFill>
        <p:spPr>
          <a:xfrm>
            <a:off x="539640" y="2924280"/>
            <a:ext cx="193068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сканирование0012"/>
          <p:cNvPicPr/>
          <p:nvPr/>
        </p:nvPicPr>
        <p:blipFill>
          <a:blip r:embed="rId4"/>
          <a:stretch/>
        </p:blipFill>
        <p:spPr>
          <a:xfrm>
            <a:off x="6588000" y="2924280"/>
            <a:ext cx="2086200" cy="3558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42840" y="755640"/>
            <a:ext cx="5351400" cy="110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920" y="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Arial"/>
              </a:rPr>
              <a:t>Касатина Т.А.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МАЛЬЧИКИ</a:t>
            </a:r>
            <a:r>
              <a:rPr b="1" lang="ru-RU" sz="8000" spc="-1" strike="noStrike">
                <a:solidFill>
                  <a:srgbClr val="ff3399"/>
                </a:solidFill>
                <a:latin typeface="Franklin Gothic Medium"/>
              </a:rPr>
              <a:t>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4"/>
          <p:cNvGraphicFramePr/>
          <p:nvPr/>
        </p:nvGraphicFramePr>
        <p:xfrm>
          <a:off x="468360" y="260280"/>
          <a:ext cx="826128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26128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2714760"/>
            <a:ext cx="8186760" cy="120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ДЕВОЧКИ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6"/>
          <p:cNvGraphicFramePr/>
          <p:nvPr/>
        </p:nvGraphicFramePr>
        <p:xfrm>
          <a:off x="460440" y="277920"/>
          <a:ext cx="822312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77920"/>
                    <a:ext cx="82231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2053800" y="3571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 Black"/>
              </a:rPr>
              <a:t>Используемые 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14200" y="1071720"/>
            <a:ext cx="871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арпенко Т. Сборник загадок. М: Просвещение, 198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едрина Т., Гелазония П. Большая книга игр и развлечений. М: Педагогика, 199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Лото «Ассоциации». Настольная игра. М: ООО «Игрушечный рай»,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Данные тестирования «Моя будущая професс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388944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жите, кто так вкусно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Готовит щи капустные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Пахучие котлеты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алаты, винегре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6" descr="сканирование0036"/>
          <p:cNvPicPr/>
          <p:nvPr/>
        </p:nvPicPr>
        <p:blipFill>
          <a:blip r:embed="rId1"/>
          <a:stretch/>
        </p:blipFill>
        <p:spPr>
          <a:xfrm>
            <a:off x="4067280" y="907920"/>
            <a:ext cx="4932360" cy="471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Кто в дни б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всех п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И лечит нас от всех болезне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7" descr="сканирование0044"/>
          <p:cNvPicPr/>
          <p:nvPr/>
        </p:nvPicPr>
        <p:blipFill>
          <a:blip r:embed="rId1"/>
          <a:stretch/>
        </p:blipFill>
        <p:spPr>
          <a:xfrm>
            <a:off x="4427640" y="1131840"/>
            <a:ext cx="471636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545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огнём бороться мы должны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Мы – смелые работники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водою мы напарники.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Так кто же м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то учит дет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итать и писать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у любить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риков уважать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7" descr="сканирование0038"/>
          <p:cNvPicPr/>
          <p:nvPr/>
        </p:nvPicPr>
        <p:blipFill>
          <a:blip r:embed="rId1"/>
          <a:stretch/>
        </p:blipFill>
        <p:spPr>
          <a:xfrm>
            <a:off x="4716360" y="87624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не лётчик, не пило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ведёт не самолё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А огромную ракету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Дети, кто, скажите, э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7" descr="сканирование0043"/>
          <p:cNvPicPr/>
          <p:nvPr/>
        </p:nvPicPr>
        <p:blipFill>
          <a:blip r:embed="rId1"/>
          <a:stretch/>
        </p:blipFill>
        <p:spPr>
          <a:xfrm>
            <a:off x="4140360" y="836640"/>
            <a:ext cx="50036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прошлый раз был педагого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лезавтра – машинис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лжен знать он очень много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тому что он 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7" descr="сканирование0039"/>
          <p:cNvPicPr/>
          <p:nvPr/>
        </p:nvPicPr>
        <p:blipFill>
          <a:blip r:embed="rId1"/>
          <a:stretch/>
        </p:blipFill>
        <p:spPr>
          <a:xfrm>
            <a:off x="4427640" y="1341360"/>
            <a:ext cx="4716360" cy="45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аведёт стеклянный глаз,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Щёлкнет раз – и помним вас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канирование0012"/>
          <p:cNvPicPr/>
          <p:nvPr/>
        </p:nvPicPr>
        <p:blipFill>
          <a:blip r:embed="rId1"/>
          <a:stretch/>
        </p:blipFill>
        <p:spPr>
          <a:xfrm>
            <a:off x="4678200" y="620640"/>
            <a:ext cx="416412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3786120" y="5572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786120" y="1571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ru-RU" sz="11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3786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786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3786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786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3786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3786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0"/>
          <p:cNvSpPr/>
          <p:nvPr/>
        </p:nvSpPr>
        <p:spPr>
          <a:xfrm>
            <a:off x="4357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1"/>
          <p:cNvSpPr/>
          <p:nvPr/>
        </p:nvSpPr>
        <p:spPr>
          <a:xfrm>
            <a:off x="5500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2"/>
          <p:cNvSpPr/>
          <p:nvPr/>
        </p:nvSpPr>
        <p:spPr>
          <a:xfrm>
            <a:off x="4929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4357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4"/>
          <p:cNvSpPr/>
          <p:nvPr/>
        </p:nvSpPr>
        <p:spPr>
          <a:xfrm>
            <a:off x="5500800" y="1571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5500800" y="2143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4929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5500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929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357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500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4929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4357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5500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4929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5500800" y="5572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6"/>
          <p:cNvSpPr/>
          <p:nvPr/>
        </p:nvSpPr>
        <p:spPr>
          <a:xfrm>
            <a:off x="5500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37"/>
          <p:cNvSpPr/>
          <p:nvPr/>
        </p:nvSpPr>
        <p:spPr>
          <a:xfrm>
            <a:off x="4929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38"/>
          <p:cNvSpPr/>
          <p:nvPr/>
        </p:nvSpPr>
        <p:spPr>
          <a:xfrm>
            <a:off x="4357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Прямоугольник 40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3581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3:35Z</dcterms:created>
  <dc:creator>ABC</dc:creator>
  <dc:description/>
  <dc:language>en-US</dc:language>
  <cp:lastModifiedBy>Admin</cp:lastModifiedBy>
  <dcterms:modified xsi:type="dcterms:W3CDTF">2010-07-04T09:24:52Z</dcterms:modified>
  <cp:revision>20</cp:revision>
  <dc:subject/>
  <dc:title>Профессии.</dc:title>
</cp:coreProperties>
</file>